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1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41280" y="3951360"/>
            <a:ext cx="6661440" cy="198360"/>
            <a:chOff x="1241280" y="3951360"/>
            <a:chExt cx="6661440" cy="198360"/>
          </a:xfrm>
        </p:grpSpPr>
        <p:sp>
          <p:nvSpPr>
            <p:cNvPr id="44" name=""/>
            <p:cNvSpPr/>
            <p:nvPr/>
          </p:nvSpPr>
          <p:spPr>
            <a:xfrm>
              <a:off x="4195800" y="395136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41280" y="395136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1"/>
          </p:nvPr>
        </p:nvSpPr>
        <p:spPr>
          <a:xfrm>
            <a:off x="89964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tl.fi/expoplatform/home_ui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rvesuomi.fi/fi/etusiv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mupedia.com/public/site/createMode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Mitä hyötyä Opasnetistä on nyt ja tulevaisuudessa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xpoplatform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www.ktl.fi/expoplatform/home_ui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nnokyl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fi.opasnet.org/fi/Innokyl%C3%A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rvesuom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www.tervesuomi.fi/fi/etusiv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otka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uusi.sotkanet.fi/portal/page/portal/etusiv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HL.f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www.thl.fi/fi_FI/web/fi/etusiv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Tavoite: Opasnet kytkee yhteen lukuisia nykyään erillisiä tietojärjestelmiä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ärkevä tietoraken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met rajapinn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yhteistyö tieteessä lähtökoht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hdään tiedettä tieteen menetelmäll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iset ongelm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ttumus estää uuteen leikkiin lähtemi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ma peukalonjälki ei näy niin selvä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lannehuo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www.tilannehuone.fi/h1n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Findikaattor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www.findikaattori.fi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88599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info.stakes.fi/iva/FI/index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Finoh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finohta.stakes.fi/FI/index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WHO H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www.who.int/hia/en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6327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omet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sometu.ning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muped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www.simupedia.com/public/site/create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53:09Z</dcterms:created>
  <dc:creator>ktluser</dc:creator>
  <dc:description/>
  <dc:language>en-US</dc:language>
  <cp:lastModifiedBy>Jouni Tuomisto</cp:lastModifiedBy>
  <dcterms:modified xsi:type="dcterms:W3CDTF">2010-02-15T06:41:06Z</dcterms:modified>
  <cp:revision>9</cp:revision>
  <dc:subject/>
  <dc:title>Opasnetin käyttökoulutus Kuopio, 15.2.2010</dc:title>
</cp:coreProperties>
</file>